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6.jpeg" ContentType="image/jpeg"/>
  <Override PartName="/ppt/media/image10.png" ContentType="image/png"/>
  <Override PartName="/ppt/media/image45.png" ContentType="image/png"/>
  <Override PartName="/ppt/media/image27.jpeg" ContentType="image/jpeg"/>
  <Override PartName="/ppt/media/image11.png" ContentType="image/png"/>
  <Override PartName="/ppt/media/image30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19.jpeg" ContentType="image/jpeg"/>
  <Override PartName="/ppt/media/image42.jpeg" ContentType="image/jpeg"/>
  <Override PartName="/ppt/media/image40.png" ContentType="image/png"/>
  <Override PartName="/ppt/media/image41.png" ContentType="image/png"/>
  <Override PartName="/ppt/media/image44.png" ContentType="image/png"/>
  <Override PartName="/ppt/media/image46.jpeg" ContentType="image/jpeg"/>
  <Override PartName="/ppt/media/image39.png" ContentType="image/png"/>
  <Override PartName="/ppt/media/image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5.jpeg" ContentType="image/jpeg"/>
  <Override PartName="/ppt/media/image32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D70-CC5B-4E61-B04F-38A8D845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1AB-709E-441C-995E-30C532C4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6D1-3D8D-421F-8A29-4A0ED869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AA8-9E92-4F8D-82A1-95324823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71F9-1B4D-4C87-A055-343F4CE2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CF1-FE0A-447A-A681-E4CFD5DD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44C0-5F45-4E22-B420-CFFA3E52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D402-E1A7-4E1A-A2EF-68D20AD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5F58-4A0F-4687-A8CC-81950BB3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8104-BA1A-49FD-BEA8-91092F9E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4F9B-9A94-444C-9C31-83DAB13D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B12-9475-4945-9E26-95F94387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8669-897D-448B-B5A9-19C364C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FC82-1105-4DAB-BF0B-37A952CC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0A75-CCA1-475C-95AE-3457D26D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69A9-E920-4419-963A-7D262F9F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6979-1E8F-4FEE-BAB5-84BE3041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A9CA-9155-4845-9313-2B13649B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5D4E-FDB4-48CF-BB43-E097428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E882-005B-48A4-9029-31A6E0E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8891-821D-40AF-8497-69E9D581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0119-904E-4196-A8D7-AD7F8AF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40C-D5A5-4215-842D-CA08013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D3CE-8F0D-4DC4-8210-425C9183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1C78-43FD-41EA-898E-C4AE639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D247-83E2-4F15-97E6-6F2844C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5447-6F03-4BB6-8374-AA702861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1B76-3BC2-4061-A0EE-4304E071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BA0E-9BBC-46CB-8A12-D4D0904D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1603-DC2E-43CD-A48A-C89963D2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F677-024A-4576-A467-1D7B6D7E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0416-B8B2-4053-AA1B-2E21D6D1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0864-5BF1-4CB2-8B8F-82CB2093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FA0-C560-4014-9AA4-FC995518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639C-2F72-4F42-B642-BEC878C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D25B-0D57-411F-A9BB-DDCAE967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51CAE-A9A2-41AC-A794-FF14BD8F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6FD7-C486-4F7D-A0D8-CF1E979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5A89-0EF9-4591-86A0-220AE86F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C5F53-8F37-4AAC-86D7-EDBBA02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0218-FED5-4A50-92D0-7D49792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6C3F-C6FF-4D7A-A315-ABFC66A4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2271-B972-4CC2-9F3D-0E79C114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EBBE-EE4B-4C5E-BDE0-A31D627C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C86-036D-4986-95FF-5163DA71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A1A5-5A2E-4497-9D50-F2C772CB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61BB-3721-44E9-A56E-6F43504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A67E-BA37-414B-86D7-952EDAC5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56A5A-4274-4B4F-A79B-2BE1C1ED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DF2C-150A-4549-811E-86C3F97C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551DF-9D4A-4FC2-BB3B-010D169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698D4-8B1F-49EB-AEE2-C1F3BFB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76DF-E0AC-4B76-A75D-D16346C7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9290-470A-4469-9DBC-CF612BF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7509-B9EE-4DA9-9599-5F90CAA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331-A475-40DF-A92B-EED76FE2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1986-F628-4CBB-94CF-FE5F0C17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14A41-212F-4302-8EC9-33DF8546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D3A96-0158-4E66-9DCE-146460C1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3618-9ACC-412A-892C-BA04A717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8D887-D106-4E77-B001-5897AD9B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6FD1-14AF-4B73-9D63-FB34054D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DFFF-6353-45B9-BBAB-46B9E1B1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3A94F-627B-4234-9C03-293FD7E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922A-6BFB-4CFA-9A5B-DCFE4028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1A7ED-9CBA-41B4-AAAD-64B3F0D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87A-C0D2-484F-896C-4B63ACD8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C6C85-6EF1-4D38-840D-55EC57E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9458-88BD-4E02-9B89-E9BEE5DC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FB13-AD32-48FA-B1CA-5B23A72E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B399-D966-4846-95CE-EAE71B5A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5A32-8A96-4AB3-8061-552AECD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DB35-5DD7-4469-8002-7912F3CA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14AE-9A44-4B2D-8F51-96C727D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68E86-66C0-4B0B-89E4-8B4584F2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01EA-2155-4164-B174-B1A56835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E480-ADDC-4DE5-A271-01C7F5FA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9F6-CAB0-439A-A436-0A7F01A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6DAB-E801-4173-8EEA-2779EAF7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AC03-D089-4E8A-AD07-ED9D7353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197A-2BDB-422C-A583-A178EEC2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EC656-57EB-435F-B281-2D50EA64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1ACC-9262-40E5-A5F1-B993B869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BB44-5E06-4B68-BCBA-B3D6260B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B6E2A-DC92-4E38-8A2A-9B4A92AC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DA66-208B-4C66-938A-CD0C1FF9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EC8F4-21C5-4113-BB82-EE20EF3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759F1-1DB2-42D9-88D7-21DD3338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BD3-2A2D-4B97-B8E3-696071E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2C1F7-C3CC-495F-A8E5-48ECF3C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1C7A-C205-4337-8896-C06ED7E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F4C9A-7E0A-41DC-8C15-C6DFC51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A3B78-1C4B-4C32-8F90-32AD918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8006F-A5FF-4EC9-97D6-D90B5D0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C3C6-0D15-4533-B679-EEEC0360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3D40-9EDB-4F2B-B5FA-32FC5148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B168-0DCA-45D4-9370-6AD9685F493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91B3-4D16-4EA2-A12A-EBCED08A8498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582-D460-4712-992E-171F0EF0F0F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300-FBC8-4B9B-BC58-8F1661F4613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019-2DB5-4DA2-B3EB-F7F4F89AD29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3B85-40F5-4160-A296-AD56DA53442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D036-6F81-480D-B9BD-CB0B30EC1A7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88F5-7101-4216-8565-95FBD03F2E61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ed1"/>
          <p:cNvPicPr/>
          <p:nvPr/>
        </p:nvPicPr>
        <p:blipFill>
          <a:blip r:embed="rId1"/>
          <a:stretch/>
        </p:blipFill>
        <p:spPr>
          <a:xfrm>
            <a:off x="1143000" y="407880"/>
            <a:ext cx="73436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47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Coaching is one model of professional development that has shown </a:t>
            </a:r>
            <a:r>
              <a:rPr b="1" i="1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potential to improve the knowledge, skill and practice of teachers, therefore, enhancing student achievement.</a:t>
            </a:r>
            <a:r>
              <a:rPr b="1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ripple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834080" y="2286000"/>
            <a:ext cx="3985920" cy="1573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image002"/>
          <p:cNvPicPr/>
          <p:nvPr/>
        </p:nvPicPr>
        <p:blipFill>
          <a:blip r:embed="rId2"/>
          <a:stretch/>
        </p:blipFill>
        <p:spPr>
          <a:xfrm>
            <a:off x="685800" y="609480"/>
            <a:ext cx="4343400" cy="495000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5"/>
          <p:cNvSpPr/>
          <p:nvPr/>
        </p:nvSpPr>
        <p:spPr>
          <a:xfrm>
            <a:off x="533520" y="4952880"/>
            <a:ext cx="4572000" cy="1143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838080" y="457200"/>
            <a:ext cx="3886200" cy="4800600"/>
          </a:xfrm>
          <a:custGeom>
            <a:avLst/>
            <a:gdLst>
              <a:gd name="textAreaLeft" fmla="*/ 67680 w 3886200"/>
              <a:gd name="textAreaRight" fmla="*/ 3818520 w 3886200"/>
              <a:gd name="textAreaTop" fmla="*/ 0 h 4800600"/>
              <a:gd name="textAreaBottom" fmla="*/ 2905200 h 4800600"/>
            </a:gdLst>
            <a:ahLst/>
            <a:rect l="textAreaLeft" t="textAreaTop" r="textAreaRight" b="textAreaBottom"/>
            <a:pathLst>
              <a:path w="21600" h="21600">
                <a:moveTo>
                  <a:pt x="2144" y="10607"/>
                </a:moveTo>
                <a:cubicBezTo>
                  <a:pt x="2249" y="5901"/>
                  <a:pt x="6093" y="2141"/>
                  <a:pt x="10800" y="2142"/>
                </a:cubicBezTo>
                <a:cubicBezTo>
                  <a:pt x="15506" y="2142"/>
                  <a:pt x="19350" y="5901"/>
                  <a:pt x="19455" y="10607"/>
                </a:cubicBezTo>
                <a:lnTo>
                  <a:pt x="21597" y="10559"/>
                </a:lnTo>
                <a:cubicBezTo>
                  <a:pt x="21466" y="4689"/>
                  <a:pt x="16670" y="-1"/>
                  <a:pt x="10799" y="0"/>
                </a:cubicBezTo>
                <a:cubicBezTo>
                  <a:pt x="4929" y="0"/>
                  <a:pt x="133" y="4689"/>
                  <a:pt x="2" y="10559"/>
                </a:cubicBezTo>
                <a:lnTo>
                  <a:pt x="2144" y="106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b050"/>
                </a:solidFill>
                <a:latin typeface="Verdana"/>
                <a:ea typeface="Arial Unicode MS"/>
              </a:rPr>
              <a:t>This study indicated that without support and follow-up, teacher implementation of new instructional methods is about 10%, but with coaching the percentage increases to 85% (Knight, 2004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49120" y="1951200"/>
            <a:ext cx="81327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5"/>
          <p:cNvSpPr txBox="1"/>
          <p:nvPr/>
        </p:nvSpPr>
        <p:spPr>
          <a:xfrm>
            <a:off x="685800" y="30492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mproved Student Learn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8" name="Picture 7" descr="tut"/>
          <p:cNvPicPr/>
          <p:nvPr/>
        </p:nvPicPr>
        <p:blipFill>
          <a:blip r:embed="rId1"/>
          <a:stretch/>
        </p:blipFill>
        <p:spPr>
          <a:xfrm>
            <a:off x="380880" y="1523880"/>
            <a:ext cx="3429000" cy="2370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ub18"/>
          <p:cNvPicPr/>
          <p:nvPr/>
        </p:nvPicPr>
        <p:blipFill>
          <a:blip r:embed="rId2"/>
          <a:stretch/>
        </p:blipFill>
        <p:spPr>
          <a:xfrm>
            <a:off x="2971800" y="3809880"/>
            <a:ext cx="3352680" cy="2487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index1_r2_c1"/>
          <p:cNvPicPr/>
          <p:nvPr/>
        </p:nvPicPr>
        <p:blipFill>
          <a:blip r:embed="rId3"/>
          <a:stretch/>
        </p:blipFill>
        <p:spPr>
          <a:xfrm>
            <a:off x="380880" y="3362400"/>
            <a:ext cx="2814840" cy="3495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cw_boyscollaboratingrv"/>
          <p:cNvPicPr/>
          <p:nvPr/>
        </p:nvPicPr>
        <p:blipFill>
          <a:blip r:embed="rId4"/>
          <a:stretch/>
        </p:blipFill>
        <p:spPr>
          <a:xfrm>
            <a:off x="6019920" y="1447920"/>
            <a:ext cx="25034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39680" y="-103320"/>
            <a:ext cx="8547120" cy="2121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php68PFjC"/>
          <p:cNvPicPr/>
          <p:nvPr/>
        </p:nvPicPr>
        <p:blipFill>
          <a:blip r:embed="rId2"/>
          <a:stretch/>
        </p:blipFill>
        <p:spPr>
          <a:xfrm>
            <a:off x="1676520" y="2362320"/>
            <a:ext cx="5410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16560" y="993600"/>
            <a:ext cx="4584600" cy="3962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blk&amp;white-holding-hands"/>
          <p:cNvPicPr/>
          <p:nvPr/>
        </p:nvPicPr>
        <p:blipFill>
          <a:blip r:embed="rId2"/>
          <a:stretch/>
        </p:blipFill>
        <p:spPr>
          <a:xfrm>
            <a:off x="304920" y="228600"/>
            <a:ext cx="42177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improve teaching and student lear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facilitate the exploration of needs, motivations, desires, skills and thought processes to assist the individual in making real, lasting chan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689040" y="1384200"/>
            <a:ext cx="8205840" cy="5473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Pillars-of-support"/>
          <p:cNvPicPr/>
          <p:nvPr/>
        </p:nvPicPr>
        <p:blipFill>
          <a:blip r:embed="rId2"/>
          <a:stretch/>
        </p:blipFill>
        <p:spPr>
          <a:xfrm>
            <a:off x="152280" y="4419720"/>
            <a:ext cx="2895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– Write down qualities of a spectator and a c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ir – Share your list and add and elaborate to your li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 with the table, add to your li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 with the large grou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689040" y="60480"/>
            <a:ext cx="8040600" cy="1877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bar-graph"/>
          <p:cNvPicPr/>
          <p:nvPr/>
        </p:nvPicPr>
        <p:blipFill>
          <a:blip r:embed="rId2"/>
          <a:stretch/>
        </p:blipFill>
        <p:spPr>
          <a:xfrm>
            <a:off x="304920" y="2286000"/>
            <a:ext cx="2711160" cy="27432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8"/>
          <p:cNvSpPr/>
          <p:nvPr/>
        </p:nvSpPr>
        <p:spPr>
          <a:xfrm>
            <a:off x="3124080" y="1981080"/>
            <a:ext cx="5664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blocks and the graph create a visual representation of your school’s pillar of strengths and sup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with a neigh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ery Walk to see the division pillars of strengths and suppor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9"/>
          <p:cNvSpPr/>
          <p:nvPr/>
        </p:nvSpPr>
        <p:spPr>
          <a:xfrm>
            <a:off x="3124080" y="4267080"/>
            <a:ext cx="5715000" cy="10670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2971800" y="5334120"/>
            <a:ext cx="5791320" cy="11430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0" y="743040"/>
            <a:ext cx="3895560" cy="5565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Edenpics-com_003-005-Sunset-on-a-pond-with-reflection-of-the-trees-in-the-water-Switzerland-St"/>
          <p:cNvPicPr/>
          <p:nvPr/>
        </p:nvPicPr>
        <p:blipFill>
          <a:blip r:embed="rId2"/>
          <a:stretch/>
        </p:blipFill>
        <p:spPr>
          <a:xfrm>
            <a:off x="4267080" y="1447920"/>
            <a:ext cx="4437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8332560" cy="2127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Characteristics of Effective Instructional Coaches – Killion/Harrison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ource provid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Coa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urriculum Speciali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tructional Speciali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assroom Suppor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rning Facilita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nt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hool Leader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talyst for chan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rn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01600" y="237960"/>
            <a:ext cx="8485200" cy="1206720"/>
          </a:xfrm>
          <a:prstGeom prst="rect">
            <a:avLst/>
          </a:prstGeom>
          <a:ln w="0">
            <a:noFill/>
          </a:ln>
        </p:spPr>
      </p:pic>
      <p:sp>
        <p:nvSpPr>
          <p:cNvPr id="421" name="Oval 3"/>
          <p:cNvSpPr/>
          <p:nvPr/>
        </p:nvSpPr>
        <p:spPr>
          <a:xfrm>
            <a:off x="685800" y="2057400"/>
            <a:ext cx="4267080" cy="411480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The deepest sin against the human mind is to believe things without evidence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Thomas Huxley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English biologis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(1825 - 1895)</a:t>
            </a:r>
            <a:r>
              <a:rPr b="0" lang="en-US" sz="2400" spc="-1" strike="noStrike">
                <a:solidFill>
                  <a:srgbClr val="ff3300"/>
                </a:solidFill>
                <a:latin typeface="Lucida Sans Unicod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554040" y="365040"/>
            <a:ext cx="81820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EndOfImprovement"/>
          <p:cNvPicPr/>
          <p:nvPr/>
        </p:nvPicPr>
        <p:blipFill>
          <a:blip r:embed="rId1"/>
          <a:stretch/>
        </p:blipFill>
        <p:spPr>
          <a:xfrm>
            <a:off x="2438280" y="0"/>
            <a:ext cx="405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grandes-courses-zinal-rothorn-traverse"/>
          <p:cNvPicPr/>
          <p:nvPr/>
        </p:nvPicPr>
        <p:blipFill>
          <a:blip r:embed="rId1"/>
          <a:stretch/>
        </p:blipFill>
        <p:spPr>
          <a:xfrm>
            <a:off x="1828800" y="685800"/>
            <a:ext cx="5410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590400" y="212760"/>
            <a:ext cx="82980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14360" y="1341360"/>
            <a:ext cx="8991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Isosceles Triangle 2"/>
          <p:cNvSpPr/>
          <p:nvPr/>
        </p:nvSpPr>
        <p:spPr>
          <a:xfrm>
            <a:off x="3657600" y="3581280"/>
            <a:ext cx="1371600" cy="167652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Straight Connector 4" descr=""/>
          <p:cNvPicPr/>
          <p:nvPr/>
        </p:nvPicPr>
        <p:blipFill>
          <a:blip r:embed="rId2"/>
          <a:stretch/>
        </p:blipFill>
        <p:spPr>
          <a:xfrm>
            <a:off x="1450800" y="3548160"/>
            <a:ext cx="6102360" cy="856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5"/>
          <p:cNvSpPr/>
          <p:nvPr/>
        </p:nvSpPr>
        <p:spPr>
          <a:xfrm>
            <a:off x="762120" y="2438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 - Spec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027840" y="25146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- C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9" name="Picture 4" descr="DSC00150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31840" y="1731960"/>
            <a:ext cx="4363920" cy="23526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"/>
          <p:cNvSpPr/>
          <p:nvPr/>
        </p:nvSpPr>
        <p:spPr>
          <a:xfrm>
            <a:off x="3657600" y="1066680"/>
            <a:ext cx="5257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Learn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2d050"/>
                </a:solidFill>
                <a:latin typeface="Times New Roman"/>
              </a:rPr>
              <a:t>Serve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Empow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689040" y="682560"/>
            <a:ext cx="81309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atalystweb-final2_05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346640" y="2682720"/>
            <a:ext cx="4668840" cy="1676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?image_id=1735438"/>
          <p:cNvPicPr/>
          <p:nvPr/>
        </p:nvPicPr>
        <p:blipFill>
          <a:blip r:embed="rId2"/>
          <a:stretch/>
        </p:blipFill>
        <p:spPr>
          <a:xfrm>
            <a:off x="380880" y="1905120"/>
            <a:ext cx="41148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Research shows that the highest achieving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schools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,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districts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, and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teachers work in collegial,</a:t>
            </a:r>
            <a:r>
              <a:rPr b="0" lang="en-US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 </a:t>
            </a:r>
            <a:r>
              <a:rPr b="0" lang="en-CA" sz="2700" spc="-1" strike="noStrike">
                <a:solidFill>
                  <a:srgbClr val="00b050"/>
                </a:solidFill>
                <a:latin typeface="Verdana"/>
                <a:ea typeface="Arial Unicode MS"/>
              </a:rPr>
              <a:t>supportive ways with each other, sharing a common knowledge base, vocabulary, and goals for stud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803840" y="2225520"/>
            <a:ext cx="3906720" cy="1676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Two-Hands-Joined-web"/>
          <p:cNvPicPr/>
          <p:nvPr/>
        </p:nvPicPr>
        <p:blipFill>
          <a:blip r:embed="rId2"/>
          <a:stretch/>
        </p:blipFill>
        <p:spPr>
          <a:xfrm>
            <a:off x="914400" y="1447920"/>
            <a:ext cx="407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49:41Z</dcterms:created>
  <dc:creator>Doug</dc:creator>
  <dc:description/>
  <dc:language>en-US</dc:language>
  <cp:lastModifiedBy>Brenda MacDonald</cp:lastModifiedBy>
  <dcterms:modified xsi:type="dcterms:W3CDTF">2010-12-01T21:33:56Z</dcterms:modified>
  <cp:revision>22</cp:revision>
  <dc:subject/>
  <dc:title>PowerPoint Presentation</dc:title>
</cp:coreProperties>
</file>